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0252-0399-4F10-957B-F0CE4151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raditional architecture, not like PowerVR or Talis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resolution in the monster configuration is 2048x1536 with true color and 32-bit IEEE floating point depth buff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F88-48F4-4059-9BBB-D7F0D685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90B-5206-4006-8DD5-08093567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AFB-41DE-408B-A177-9DEC73B8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834-26DB-4168-9208-3E9CB652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590-E748-41A9-9C59-F440A425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F36-A162-44E2-969D-9DDFD1CE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F55-0114-4AF0-B56C-F8F3A59C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E49-E0FA-4EBE-9EE4-317AB58B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DB4-AD32-47E4-BBDC-68E0245A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95E-DAA3-4743-B948-4A63CA0F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2E4-AFDA-469E-AC6B-FC085835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698-B134-41A1-B894-5029B79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itboys 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i Nordl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Archi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boys 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nord@bitboys.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021-96A2-4382-A350-76D20F42AA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xel pipe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523880"/>
          <a:ext cx="544824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44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039-2D11-473C-90E5-50C2103D47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embedded DRAM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s accelerator needs GB/s of memory bandwidth, to render at 600 MPIX/s at true color and 32-bit Z, 7.2 GB/s of memory bandwidth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memory can no longer provide enough bandwidth for future graphics accel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efficient - less chips on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size - we needed exactly 9 MB (= 72 M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organization in terms of bus width, ba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F9B-047A-4F87-9F9D-6AA7492CAFA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Black"/>
              </a:rPr>
              <a:t>Cell-concepts: Trench versus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46240" y="941400"/>
            <a:ext cx="1227240" cy="31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383000" y="1852560"/>
          <a:ext cx="3141720" cy="423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1852560"/>
                    <a:ext cx="3141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38280" y="3657600"/>
            <a:ext cx="49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052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6576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520" y="1219320"/>
            <a:ext cx="19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itor’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H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lock stacke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hard to add mult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2320" y="1219320"/>
            <a:ext cx="46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fineon’s trench capacitor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ideally suited for adding multi-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6668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760" y="2514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L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36232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6600" y="2895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6960" y="2209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ta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20120" y="3048120"/>
            <a:ext cx="514080" cy="2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1640" y="4495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724280"/>
            <a:ext cx="1746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1116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1600200"/>
            <a:ext cx="5097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24280"/>
            <a:ext cx="350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rench technology combined with CMP (chemical mechanical polishing) techniques gives the advantage of being able to deposit the logic metallization onto a globally planar su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fineon%20Logo4C%20tiff" descr=""/>
          <p:cNvPicPr/>
          <p:nvPr/>
        </p:nvPicPr>
        <p:blipFill>
          <a:blip r:embed="rId5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C3B-AE72-46C3-BF07-28B85C5105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bedded D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 Mbits (9 MB) of eD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MHz core/memory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6 GB/s memory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ded into four 18 Mbit modules of 3 bank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s framebuffer and Z buffer - enough for 1024x768x32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internal buses, need lots of metal lay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362320"/>
          <a:ext cx="3809880" cy="29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61F-0E51-4109-B7AD-A3B8DC0522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chip configu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bus interface built into Glaze3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 cost effective multi-chip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 is a geometry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nster configuration is capable of 2400 MPIX/s, 10M triangles/s sustained -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8 gigatexels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market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 desktop high-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cad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668680"/>
          <a:ext cx="38098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8680"/>
                    <a:ext cx="3809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626-D7D6-40A1-B1D8-E7593C0ADD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led rendering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linear framebuffer in video memory but primitives rendered as tiles instead of scan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is divided into tiles (16x16, 32x32, 64x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 is not sufficient - trashes texture cach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four chip configuration, one chip renders 1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ndering chip ignores the primitive if it doesn’t fall into one of the tiles this chip ren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split between the rendering chips - monster configuration has a 36 MB embedded F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1B1-455C-413B-B39C-FADB6E35FC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71080" y="1828800"/>
            <a:ext cx="170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3280" y="1828800"/>
            <a:ext cx="99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9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584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472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1520" y="251460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atur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0440" y="297180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1Mb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0800" y="342900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w g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0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4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26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7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8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5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108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1880" y="38098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x.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38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26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5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4760" y="3429000"/>
            <a:ext cx="180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~11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144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3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9360" y="426708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s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3800" y="4267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12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296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144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9720" y="4876920"/>
            <a:ext cx="173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x.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38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26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108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7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0440" y="5334120"/>
            <a:ext cx="16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emory / logic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on 15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0344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0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2.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3412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4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8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6.4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parameters for nex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5C6-8AF2-4DF6-803A-63C256F263B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 more and more triangles through the pip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: CPU - 3D-hardware interface,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y processors, advanced geometr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pixels and te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 8 gigatexels/s in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GB/s of memory bandwidth - embedded DRAM is the only solu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features per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texture filtering (anisotropic for 2D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ability (procedural tex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stic materials and surfac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8F7-4D08-4500-982D-91B85B7AE02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AE2-B7ED-48AF-B98F-D17EC7B840AC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new consumer-level 2D/3D-graphics accelerator c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rate: 1200 million texels / sec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and developed by Bitboys Oy, a Finnish 3D-graphics hardware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Infineon Technologies’ 0.2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eDRAM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B of embedded framebuffer memory, 128 MB (max) of external video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DF6-C1A2-4E02-9854-55B21526FF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sign go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, proven rendering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’99, Microsoft Windows, Direct3D and OpenGL 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chip support, two- and four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dditional geometry processor, also in multi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full advantage of embedded D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and efficient rendering core required, embedded DRAM in Glaze3D takes most of the available sil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C8D-E992-44BE-8B0D-340494A488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d-pixel pipeline @ 150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0 million pixels / second (dual text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0 million texels /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 million fully featured triangles / second (sustai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e-accurate, bit-accurate simulator together with in-house developed PCIBuilder allows performance tuning with real-world applications (Quake III Arena, Viewpe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333-BB76-41B8-98DF-9E9BA8025B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cache: 16 KB cache for even mipmap levels and surface textures, 8 KB cache for odd mipmap levels and lightmaps. Both caches two-way set associ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coverage issue - 4-pixel horizontal blocks, expect 90% coverage with average-size triang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ke III arena - 200 FPS with all features on @ 800x600x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 MPIX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.000 drawn triangles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MB of textures / frame, 670 MB/s of textu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complexity of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046-2919-42F6-85EB-D93D192FE1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imultaneous textures with trilinea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TC texture com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scene, order independent anti-ali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bum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DI+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caled transparent video over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flat-panel and TV-ou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2EF-B097-4846-A249-D840DD535B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laze3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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 pin B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M logic g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SDR SDRA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and/or color buffer stored here in higher re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 128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- or 128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I and 2X/4X AGP interfaces: AGP interface supports direct AGP tex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C71-F1C9-4B3F-A5AA-E69AD246AA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0280" y="304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08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aze3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219320"/>
          <a:ext cx="6515280" cy="48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5152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884-823E-4C0D-80FB-D0982851C0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angle setup en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62320" y="1676520"/>
          <a:ext cx="4419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4419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55C-28B2-4454-8993-B32B6D1E14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5:57:30Z</dcterms:created>
  <dc:creator>Petri Nordlund</dc:creator>
  <dc:description/>
  <dc:language>en-US</dc:language>
  <cp:lastModifiedBy>Petri Nordlund</cp:lastModifiedBy>
  <cp:lastPrinted>1999-05-31T07:55:05Z</cp:lastPrinted>
  <dcterms:modified xsi:type="dcterms:W3CDTF">1999-07-11T14:59:00Z</dcterms:modified>
  <cp:revision>214</cp:revision>
  <dc:subject/>
  <dc:title>No Slide Title</dc:title>
</cp:coreProperties>
</file>